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9A5D-4D94-431B-8E71-30CB9E3F4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A86D-7258-4D0F-9F21-4F0A5055F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B848-6217-452A-BA83-B123DE04B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8D81-C112-48D1-8DEC-C61775F1C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8E1F-B85A-4D80-8BC5-9079045F1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B0A5-1EEB-4821-AD33-D22FD68B2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08BE-957E-4317-A266-344757A13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5BE6-844C-4E6C-ACFA-93B0AD7F4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5364-ADAE-470C-9026-D785747F0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8705-30C3-49AD-BE5E-3A5984869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CCF1-781C-4DC0-B657-6A33FD9C3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C306-4D91-4B27-9832-DF272453E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3101D-2626-43EF-B048-4E3F1F8082C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ytuł 1"/>
          <p:cNvSpPr/>
          <p:nvPr/>
        </p:nvSpPr>
        <p:spPr>
          <a:xfrm>
            <a:off x="2357280" y="1785960"/>
            <a:ext cx="4714920" cy="221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000" spc="-1" strike="noStrike">
                <a:solidFill>
                  <a:srgbClr val="ffffff"/>
                </a:solidFill>
                <a:latin typeface="Calibri"/>
              </a:rPr>
              <a:t>Urządzenia elektryczn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ole tekstowe 6"/>
          <p:cNvSpPr/>
          <p:nvPr/>
        </p:nvSpPr>
        <p:spPr>
          <a:xfrm>
            <a:off x="2786040" y="5286240"/>
            <a:ext cx="36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ff00"/>
                </a:solidFill>
                <a:latin typeface="Calibri"/>
              </a:rPr>
              <a:t>przykła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Obraz 2" descr="lodowka.bmp"/>
          <p:cNvPicPr/>
          <p:nvPr/>
        </p:nvPicPr>
        <p:blipFill>
          <a:blip r:embed="rId1"/>
          <a:stretch/>
        </p:blipFill>
        <p:spPr>
          <a:xfrm>
            <a:off x="3484440" y="1000080"/>
            <a:ext cx="2175120" cy="43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Obraz 2" descr="odkurzacz.bmp"/>
          <p:cNvPicPr/>
          <p:nvPr/>
        </p:nvPicPr>
        <p:blipFill>
          <a:blip r:embed="rId1"/>
          <a:stretch/>
        </p:blipFill>
        <p:spPr>
          <a:xfrm>
            <a:off x="2203560" y="1928880"/>
            <a:ext cx="4736880" cy="28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Obraz 2" descr="żelazko.bmp"/>
          <p:cNvPicPr/>
          <p:nvPr/>
        </p:nvPicPr>
        <p:blipFill>
          <a:blip r:embed="rId1"/>
          <a:stretch/>
        </p:blipFill>
        <p:spPr>
          <a:xfrm>
            <a:off x="2909880" y="1857240"/>
            <a:ext cx="332424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Obraz 2" descr="pralka.bmp"/>
          <p:cNvPicPr/>
          <p:nvPr/>
        </p:nvPicPr>
        <p:blipFill>
          <a:blip r:embed="rId1"/>
          <a:stretch/>
        </p:blipFill>
        <p:spPr>
          <a:xfrm>
            <a:off x="2843280" y="1442880"/>
            <a:ext cx="3255840" cy="39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3T15:53:53Z</dcterms:created>
  <dc:creator>Grazyna</dc:creator>
  <dc:description/>
  <dc:language>en-US</dc:language>
  <cp:lastModifiedBy>Grazyna</cp:lastModifiedBy>
  <dcterms:modified xsi:type="dcterms:W3CDTF">2010-06-19T07:56:54Z</dcterms:modified>
  <cp:revision>13</cp:revision>
  <dc:subject/>
  <dc:title>Slajd 1</dc:title>
</cp:coreProperties>
</file>